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FDC-48FE-4905-A4B2-506022F2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A63-A513-4C8D-9F5A-880CE36F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348A-2C75-4532-BA06-1C50F4DB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EBC8-9A87-43D2-9D51-737EB1B3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5963-5E95-48E9-849F-05A5C410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3699-6CB9-48BD-BEF2-0E1B151B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A943-EEEE-4B70-91AC-56189114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FF33-15B3-4A7C-8EC7-CEEDC75E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1CC8-9C2C-42FC-8BF5-15549466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593B-F9DB-494A-9742-7607D05F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6CFC-CD73-4FA0-95ED-55D46DF2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6C8-10FB-4935-9E9F-7558CD22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163A-F55A-44E8-BEB2-20FCBC4B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D135-8908-45CE-99DE-975AF365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95BA-1B66-493F-A314-8814D103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6839-E836-4DA0-BEFD-47F691C9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C4CF-E6BE-4DD9-9B02-CCE6B815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7B187-54B5-4465-AC88-52AD8C75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5B386-9823-45A6-89EF-191BBBFB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E813B-A3A9-4971-AC38-C8F7B1EE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705E5-886D-482C-8B1B-41FC0B15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F45AC-3DDD-431E-B3B5-C011299F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4FFE-88ED-4743-8249-059F4394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959D4-54D1-4876-8911-F2B4FDE5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83ADE-1E9F-45C9-8622-616A3E11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C364C-BE03-47CB-B209-EC9DBB7D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3372A-1925-4A9E-B4D5-6CDBA132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7727A-4068-43B6-9FFB-DD0D7423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ABC2B-EF75-42D1-9F36-BA7BC38B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74D3F-E408-4558-BAF1-04141015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5A1-A013-4CE8-83BA-AA372462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84D-B23E-415B-97EE-1426158E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048-726D-405E-ABDF-C2AFFDA2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A320-885B-4D03-9EB2-0D29F4A0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F35D-8234-4C1F-A6F9-867E37BD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ACA-7D32-46AE-B671-6418BB88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889EA-7459-485D-BD8E-0FEC577BCCF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5BAF4-021F-414F-84A8-7473596A716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DC2471-2977-4AF1-8746-E0AA41EAD7C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C4B06-3000-4CFA-BDC3-266C1586ED1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99F2F-4008-4A8F-A7CA-170954FB208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84C16-49D4-41F5-8E59-7A5A01B9C31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-360" y="2430000"/>
            <a:ext cx="36306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5/6 grade students at Westridge Elementary Schoo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Mrs. Vanderford’s Clas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6" name="Picture 4" descr="school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966960" y="617400"/>
            <a:ext cx="78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ews Gothic MT"/>
              </a:rPr>
              <a:t>How we can make a difference?</a:t>
            </a:r>
            <a:endParaRPr b="0" lang="en-US" sz="4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ur Recommend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y Save Energy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Students Explor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he Timelin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roblem-Solving Solutio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ollecting the Dat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onducting the Research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alyzing the Dat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ploring Solutio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21:02:32Z</dcterms:created>
  <dc:creator>Linda Vanderford</dc:creator>
  <dc:description/>
  <dc:language>en-US</dc:language>
  <cp:lastModifiedBy>Linda Vanderford</cp:lastModifiedBy>
  <dcterms:modified xsi:type="dcterms:W3CDTF">2010-08-04T21:32:16Z</dcterms:modified>
  <cp:revision>1</cp:revision>
  <dc:subject/>
  <dc:title>Slide 1</dc:title>
</cp:coreProperties>
</file>